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A9E-5968-4FFD-AE17-080197E1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0DA-CD44-4F3A-A310-C1387AF0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25E-AAF7-4CE8-A946-28F37856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FF5-614B-4BB9-825C-17DBDA47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6C9-5616-41FC-86AD-F9B77A7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E85-0F8A-43D8-BA42-9C081A69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217-F4C0-448A-8E80-B4EBE37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495-E601-4F45-BD4F-48F2C486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FF0-64DE-439B-AE0C-F160FC84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660-7515-4856-B79B-E318BE5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E44-036A-4D06-A9A3-061932E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03F-F647-4E5A-A5E1-6199085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2643-CB8B-4D80-8B28-026F81171F1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C:\Users\user\Pictures\Documentos\Fotos diversas\7686f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1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 base na tabela anterior, respon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. Qual o alimento que libera a maior quantidade de energia por grama? E qual libera a menor quantidade de energ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CaixaDeTexto 2"/>
          <p:cNvSpPr/>
          <p:nvPr/>
        </p:nvSpPr>
        <p:spPr>
          <a:xfrm>
            <a:off x="0" y="207180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Pão de fôrm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41 kcal / 50 g = 2,82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Margarin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59 kcal / 10 g = 5,9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Macarrão instantâneo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475 kcal / 110 g = 4,32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Pipoc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78 kcal / 25 g = 3,12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Biscoito de morango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45 kcal / 30 g = 4,83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Biscoito salgado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36 kcal / 30 g = 4,53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Feijão preto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257 kcal / 75 g = 3,43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Leite condensado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02 kcal / 30 g = 3,40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Doce de ameix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50 kcal / 20 g = 2,5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ixaDeTexto 1"/>
          <p:cNvSpPr/>
          <p:nvPr/>
        </p:nvSpPr>
        <p:spPr>
          <a:xfrm>
            <a:off x="0" y="5716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. Uma criança ingeriu, no café da manhã, a seguin-te refei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fatia de pão de fôrma com 2 g de marga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5 biscoitos recheados de mora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 biscoitos integrais com 10 g de doce de amei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copo de leite com chocolate em p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siderando-se que o valor energético de 1 copo de leite com chocolate em pó é 815 kJ, qual será a quantidade energética ingerida pela criança durante o café da manhã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aixaDeTexto 1"/>
          <p:cNvSpPr/>
          <p:nvPr/>
        </p:nvSpPr>
        <p:spPr>
          <a:xfrm>
            <a:off x="0" y="50004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fatia de pão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25 g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295,0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 g margarina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49,4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5 biscoitos de morango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60 g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214,0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 biscoitos integrais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0 g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89,7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0 g doce ameixa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04,5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copo leite c/ chocolate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815,0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onector reto 5"/>
          <p:cNvSpPr/>
          <p:nvPr/>
        </p:nvSpPr>
        <p:spPr>
          <a:xfrm>
            <a:off x="7072200" y="5429160"/>
            <a:ext cx="207180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CaixaDeTexto 6"/>
          <p:cNvSpPr/>
          <p:nvPr/>
        </p:nvSpPr>
        <p:spPr>
          <a:xfrm flipH="1">
            <a:off x="7071480" y="56437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2667,6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611280" y="3219480"/>
            <a:ext cx="561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2C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(grafite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1 C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4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50920" y="40831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la é uma: Equação Termoquím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327320" y="465300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Reag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365480" y="5224320"/>
            <a:ext cx="33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Quantida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305720" y="580068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Calor (absorvido ou liberad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929520" y="213372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na equação aparecer o calor envolv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4585680" y="465120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Produ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167360" y="4651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6254640" y="3213000"/>
            <a:ext cx="2792160" cy="647640"/>
            <a:chOff x="6254640" y="3213000"/>
            <a:chExt cx="2792160" cy="647640"/>
          </a:xfrm>
        </p:grpSpPr>
        <p:sp>
          <p:nvSpPr>
            <p:cNvPr id="91" name="Rectangle 22"/>
            <p:cNvSpPr/>
            <p:nvPr/>
          </p:nvSpPr>
          <p:spPr>
            <a:xfrm>
              <a:off x="6294960" y="3240000"/>
              <a:ext cx="275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3000" spc="-1" strike="noStrike">
                  <a:solidFill>
                    <a:srgbClr val="ffffff"/>
                  </a:solidFill>
                  <a:latin typeface="Arial"/>
                </a:rPr>
                <a:t>H = -367,8 K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23"/>
            <p:cNvSpPr/>
            <p:nvPr/>
          </p:nvSpPr>
          <p:spPr>
            <a:xfrm>
              <a:off x="6254640" y="3213000"/>
              <a:ext cx="2781360" cy="6476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28"/>
          <p:cNvSpPr/>
          <p:nvPr/>
        </p:nvSpPr>
        <p:spPr>
          <a:xfrm>
            <a:off x="3574800" y="380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quação Quím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322200" y="1052640"/>
            <a:ext cx="849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2C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(grafite)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   1 C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4(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2229480" y="231840"/>
            <a:ext cx="47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0880" y="11430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presenta graficamente a variação da entalpia de uma transform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036160" y="250020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para reaçõ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5640" y="38606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2">
            <a:hlinkClick r:id="rId1" action="ppaction://hlinksldjump"/>
          </p:cNvPr>
          <p:cNvSpPr/>
          <p:nvPr/>
        </p:nvSpPr>
        <p:spPr>
          <a:xfrm>
            <a:off x="6324480" y="4800600"/>
            <a:ext cx="609840" cy="990720"/>
          </a:xfrm>
          <a:prstGeom prst="downArrow">
            <a:avLst>
              <a:gd name="adj1" fmla="val 50000"/>
              <a:gd name="adj2" fmla="val 4061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934200" y="3860640"/>
            <a:ext cx="29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1">
            <a:hlinkClick r:id="rId2" action="ppaction://hlinksldjump"/>
          </p:cNvPr>
          <p:cNvSpPr/>
          <p:nvPr/>
        </p:nvSpPr>
        <p:spPr>
          <a:xfrm>
            <a:off x="2133720" y="48006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819080" y="5943600"/>
            <a:ext cx="12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H &gt; 0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052320" y="59436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H &lt; 0 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0" y="380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440160" y="581184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gt; 0 (+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salitre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59520" y="6019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03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334"/>
                            </p:stCondLst>
                            <p:childTnLst>
                              <p:par>
                                <p:cTn id="2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834"/>
                            </p:stCondLst>
                            <p:childTnLst>
                              <p:par>
                                <p:cTn id="2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7"/>
          <p:cNvSpPr/>
          <p:nvPr/>
        </p:nvSpPr>
        <p:spPr>
          <a:xfrm>
            <a:off x="2286000" y="380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495600" y="5811840"/>
            <a:ext cx="21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lt; 0 (-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sodcaus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7859520" y="6019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03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334"/>
                            </p:stCondLst>
                            <p:childTnLst>
                              <p:par>
                                <p:cTn id="3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1834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345760" y="260280"/>
            <a:ext cx="44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ção Endotérm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5036400" y="3795840"/>
            <a:ext cx="3606120" cy="2592360"/>
            <a:chOff x="5036400" y="3795840"/>
            <a:chExt cx="3606120" cy="2592360"/>
          </a:xfrm>
        </p:grpSpPr>
        <p:sp>
          <p:nvSpPr>
            <p:cNvPr id="114" name="Line 4"/>
            <p:cNvSpPr/>
            <p:nvPr/>
          </p:nvSpPr>
          <p:spPr>
            <a:xfrm>
              <a:off x="5651280" y="3795840"/>
              <a:ext cx="0" cy="247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5341680" y="6019920"/>
              <a:ext cx="297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5651280" y="4289760"/>
              <a:ext cx="2111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651280" y="546444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rot="10800000">
              <a:off x="7453080" y="4289400"/>
              <a:ext cx="309600" cy="1174680"/>
            </a:xfrm>
            <a:prstGeom prst="downArrow">
              <a:avLst>
                <a:gd name="adj1" fmla="val 50000"/>
                <a:gd name="adj2" fmla="val 94855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5851440" y="38102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768440" y="466128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g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6228720" y="60199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5036400" y="398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5732280" y="49532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Text Box 14"/>
          <p:cNvSpPr/>
          <p:nvPr/>
        </p:nvSpPr>
        <p:spPr>
          <a:xfrm>
            <a:off x="2523960" y="1840680"/>
            <a:ext cx="66708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724360" y="1628640"/>
            <a:ext cx="1079640" cy="107964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3743280" y="1843200"/>
            <a:ext cx="1523880" cy="609480"/>
          </a:xfrm>
          <a:prstGeom prst="rightArrow">
            <a:avLst>
              <a:gd name="adj1" fmla="val 50000"/>
              <a:gd name="adj2" fmla="val 62507"/>
            </a:avLst>
          </a:prstGeom>
          <a:solidFill>
            <a:srgbClr val="eeece1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flipV="1">
            <a:off x="3052800" y="2133720"/>
            <a:ext cx="1447920" cy="1371600"/>
          </a:xfrm>
          <a:custGeom>
            <a:avLst/>
            <a:gdLst>
              <a:gd name="textAreaLeft" fmla="*/ 212040 w 1447920"/>
              <a:gd name="textAreaRight" fmla="*/ 1235880 w 144792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46"/>
                  <a:pt x="13827" y="5441"/>
                  <a:pt x="10875" y="5400"/>
                </a:cubicBezTo>
                <a:lnTo>
                  <a:pt x="10950" y="1"/>
                </a:lnTo>
                <a:cubicBezTo>
                  <a:pt x="16855" y="83"/>
                  <a:pt x="21599" y="4893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620720" y="3045600"/>
            <a:ext cx="187020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16880" y="411768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72600" y="5019120"/>
            <a:ext cx="156600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gt;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91680" y="5882760"/>
            <a:ext cx="118512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tângulo 4" descr=""/>
          <p:cNvPicPr/>
          <p:nvPr/>
        </p:nvPicPr>
        <p:blipFill>
          <a:blip r:embed="rId1"/>
          <a:stretch/>
        </p:blipFill>
        <p:spPr>
          <a:xfrm>
            <a:off x="-158760" y="109440"/>
            <a:ext cx="9510840" cy="1725840"/>
          </a:xfrm>
          <a:prstGeom prst="rect">
            <a:avLst/>
          </a:prstGeom>
          <a:ln w="0">
            <a:noFill/>
          </a:ln>
        </p:spPr>
      </p:pic>
      <p:pic>
        <p:nvPicPr>
          <p:cNvPr id="44" name="Retângulo 5" descr=""/>
          <p:cNvPicPr/>
          <p:nvPr/>
        </p:nvPicPr>
        <p:blipFill>
          <a:blip r:embed="rId2"/>
          <a:stretch/>
        </p:blipFill>
        <p:spPr>
          <a:xfrm>
            <a:off x="2981160" y="5456160"/>
            <a:ext cx="6266160" cy="1951200"/>
          </a:xfrm>
          <a:prstGeom prst="rect">
            <a:avLst/>
          </a:prstGeom>
          <a:ln w="0">
            <a:noFill/>
          </a:ln>
        </p:spPr>
      </p:pic>
      <p:pic>
        <p:nvPicPr>
          <p:cNvPr id="45" name="Retângulo 6" descr=""/>
          <p:cNvPicPr/>
          <p:nvPr/>
        </p:nvPicPr>
        <p:blipFill>
          <a:blip r:embed="rId3"/>
          <a:stretch/>
        </p:blipFill>
        <p:spPr>
          <a:xfrm>
            <a:off x="5638680" y="1700280"/>
            <a:ext cx="3376800" cy="982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13160" y="23184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ção Exotérm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776920" y="1772640"/>
            <a:ext cx="66672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50920" y="1523880"/>
            <a:ext cx="1079640" cy="107964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776760" y="1636560"/>
            <a:ext cx="1523880" cy="609840"/>
          </a:xfrm>
          <a:prstGeom prst="rightArrow">
            <a:avLst>
              <a:gd name="adj1" fmla="val 50000"/>
              <a:gd name="adj2" fmla="val 62470"/>
            </a:avLst>
          </a:prstGeom>
          <a:solidFill>
            <a:srgbClr val="eeece1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090960" y="217008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46"/>
                  <a:pt x="13827" y="5441"/>
                  <a:pt x="10875" y="5400"/>
                </a:cubicBezTo>
                <a:lnTo>
                  <a:pt x="10950" y="1"/>
                </a:lnTo>
                <a:cubicBezTo>
                  <a:pt x="16855" y="83"/>
                  <a:pt x="21599" y="4893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311640" y="3309120"/>
            <a:ext cx="196056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16880" y="404460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72600" y="4947480"/>
            <a:ext cx="156600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lt;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94920" y="5882760"/>
            <a:ext cx="107064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036400" y="3795840"/>
            <a:ext cx="3606120" cy="2592360"/>
            <a:chOff x="5036400" y="3795840"/>
            <a:chExt cx="3606120" cy="2592360"/>
          </a:xfrm>
        </p:grpSpPr>
        <p:sp>
          <p:nvSpPr>
            <p:cNvPr id="142" name="Line 12"/>
            <p:cNvSpPr/>
            <p:nvPr/>
          </p:nvSpPr>
          <p:spPr>
            <a:xfrm>
              <a:off x="5651280" y="3795840"/>
              <a:ext cx="0" cy="247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5341680" y="6019920"/>
              <a:ext cx="297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5651280" y="4289400"/>
              <a:ext cx="2111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5651280" y="546408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6"/>
            <p:cNvSpPr/>
            <p:nvPr/>
          </p:nvSpPr>
          <p:spPr>
            <a:xfrm>
              <a:off x="7453080" y="4289400"/>
              <a:ext cx="309600" cy="1174680"/>
            </a:xfrm>
            <a:prstGeom prst="downArrow">
              <a:avLst>
                <a:gd name="adj1" fmla="val 50000"/>
                <a:gd name="adj2" fmla="val 94855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5929200" y="502920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8"/>
            <p:cNvSpPr/>
            <p:nvPr/>
          </p:nvSpPr>
          <p:spPr>
            <a:xfrm>
              <a:off x="7768440" y="466092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6228720" y="60199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20"/>
            <p:cNvSpPr/>
            <p:nvPr/>
          </p:nvSpPr>
          <p:spPr>
            <a:xfrm>
              <a:off x="5036400" y="398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21"/>
            <p:cNvSpPr/>
            <p:nvPr/>
          </p:nvSpPr>
          <p:spPr>
            <a:xfrm>
              <a:off x="5838480" y="38098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29480" y="231840"/>
            <a:ext cx="47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98200" y="1347840"/>
            <a:ext cx="29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45"/>
          <p:cNvGrpSpPr/>
          <p:nvPr/>
        </p:nvGrpSpPr>
        <p:grpSpPr>
          <a:xfrm>
            <a:off x="1474200" y="2313000"/>
            <a:ext cx="6126120" cy="4011480"/>
            <a:chOff x="1474200" y="2313000"/>
            <a:chExt cx="6126120" cy="4011480"/>
          </a:xfrm>
        </p:grpSpPr>
        <p:sp>
          <p:nvSpPr>
            <p:cNvPr id="155" name="Line 22"/>
            <p:cNvSpPr/>
            <p:nvPr/>
          </p:nvSpPr>
          <p:spPr>
            <a:xfrm>
              <a:off x="2462040" y="2313000"/>
              <a:ext cx="0" cy="401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>
              <a:off x="1892520" y="5922720"/>
              <a:ext cx="548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2462040" y="3114360"/>
              <a:ext cx="3885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5"/>
            <p:cNvSpPr/>
            <p:nvPr/>
          </p:nvSpPr>
          <p:spPr>
            <a:xfrm>
              <a:off x="2462040" y="5020920"/>
              <a:ext cx="38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26"/>
            <p:cNvSpPr/>
            <p:nvPr/>
          </p:nvSpPr>
          <p:spPr>
            <a:xfrm rot="10800000">
              <a:off x="5778000" y="3114360"/>
              <a:ext cx="569520" cy="1906560"/>
            </a:xfrm>
            <a:prstGeom prst="downArrow">
              <a:avLst>
                <a:gd name="adj1" fmla="val 50000"/>
                <a:gd name="adj2" fmla="val 83692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27"/>
            <p:cNvSpPr/>
            <p:nvPr/>
          </p:nvSpPr>
          <p:spPr>
            <a:xfrm>
              <a:off x="3289680" y="23360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28"/>
            <p:cNvSpPr/>
            <p:nvPr/>
          </p:nvSpPr>
          <p:spPr>
            <a:xfrm>
              <a:off x="6726240" y="371736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g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29"/>
            <p:cNvSpPr/>
            <p:nvPr/>
          </p:nvSpPr>
          <p:spPr>
            <a:xfrm>
              <a:off x="4470840" y="59227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30"/>
            <p:cNvSpPr/>
            <p:nvPr/>
          </p:nvSpPr>
          <p:spPr>
            <a:xfrm>
              <a:off x="1474200" y="2621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42"/>
            <p:cNvSpPr/>
            <p:nvPr/>
          </p:nvSpPr>
          <p:spPr>
            <a:xfrm>
              <a:off x="3148920" y="41914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47"/>
          <p:cNvSpPr/>
          <p:nvPr/>
        </p:nvSpPr>
        <p:spPr>
          <a:xfrm>
            <a:off x="1439280" y="130320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371760" y="380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83400" y="1347840"/>
            <a:ext cx="29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943560" y="1981080"/>
            <a:ext cx="7293240" cy="4383000"/>
            <a:chOff x="943560" y="1981080"/>
            <a:chExt cx="7293240" cy="4383000"/>
          </a:xfrm>
        </p:grpSpPr>
        <p:sp>
          <p:nvSpPr>
            <p:cNvPr id="169" name="Line 7"/>
            <p:cNvSpPr/>
            <p:nvPr/>
          </p:nvSpPr>
          <p:spPr>
            <a:xfrm>
              <a:off x="1644120" y="1981080"/>
              <a:ext cx="0" cy="43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8"/>
            <p:cNvSpPr/>
            <p:nvPr/>
          </p:nvSpPr>
          <p:spPr>
            <a:xfrm>
              <a:off x="1079640" y="5924880"/>
              <a:ext cx="715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5040720" y="3087360"/>
              <a:ext cx="23623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10800000">
              <a:off x="5179320" y="3087360"/>
              <a:ext cx="564480" cy="2353680"/>
            </a:xfrm>
            <a:prstGeom prst="downArrow">
              <a:avLst>
                <a:gd name="adj1" fmla="val 50000"/>
                <a:gd name="adj2" fmla="val 104241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5266800" y="2411640"/>
              <a:ext cx="21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5596200" y="4033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H &gt;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3627720" y="592488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943560" y="200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2230200" y="4796280"/>
              <a:ext cx="141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1705320" y="551952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 flipV="1">
              <a:off x="4067640" y="3087360"/>
              <a:ext cx="972720" cy="243216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4067640" y="5519520"/>
              <a:ext cx="333540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5"/>
          <p:cNvGrpSpPr/>
          <p:nvPr/>
        </p:nvGrpSpPr>
        <p:grpSpPr>
          <a:xfrm>
            <a:off x="1158120" y="2232000"/>
            <a:ext cx="6757560" cy="4183920"/>
            <a:chOff x="1158120" y="2232000"/>
            <a:chExt cx="6757560" cy="4183920"/>
          </a:xfrm>
        </p:grpSpPr>
        <p:sp>
          <p:nvSpPr>
            <p:cNvPr id="182" name="Line 6"/>
            <p:cNvSpPr/>
            <p:nvPr/>
          </p:nvSpPr>
          <p:spPr>
            <a:xfrm>
              <a:off x="2237400" y="2232000"/>
              <a:ext cx="0" cy="418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602000" y="5996520"/>
              <a:ext cx="611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2237400" y="3067200"/>
              <a:ext cx="43322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2237400" y="5055480"/>
              <a:ext cx="433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0"/>
            <p:cNvSpPr/>
            <p:nvPr/>
          </p:nvSpPr>
          <p:spPr>
            <a:xfrm>
              <a:off x="5934600" y="3067200"/>
              <a:ext cx="635040" cy="1988280"/>
            </a:xfrm>
            <a:prstGeom prst="downArrow">
              <a:avLst>
                <a:gd name="adj1" fmla="val 50000"/>
                <a:gd name="adj2" fmla="val 78274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382920" y="43196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041600" y="369612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4609800" y="59965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158120" y="2554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96880" y="22557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Text Box 28"/>
          <p:cNvSpPr/>
          <p:nvPr/>
        </p:nvSpPr>
        <p:spPr>
          <a:xfrm>
            <a:off x="2229480" y="231840"/>
            <a:ext cx="47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5538240" y="13478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1439280" y="130320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371760" y="380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223800" y="13478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9"/>
          <p:cNvGrpSpPr/>
          <p:nvPr/>
        </p:nvGrpSpPr>
        <p:grpSpPr>
          <a:xfrm>
            <a:off x="873720" y="1984320"/>
            <a:ext cx="7432920" cy="4539960"/>
            <a:chOff x="873720" y="1984320"/>
            <a:chExt cx="7432920" cy="4539960"/>
          </a:xfrm>
        </p:grpSpPr>
        <p:sp>
          <p:nvSpPr>
            <p:cNvPr id="198" name="Line 20"/>
            <p:cNvSpPr/>
            <p:nvPr/>
          </p:nvSpPr>
          <p:spPr>
            <a:xfrm>
              <a:off x="1505160" y="1984320"/>
              <a:ext cx="0" cy="45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1009800" y="6042960"/>
              <a:ext cx="7296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189760" y="5622840"/>
              <a:ext cx="269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23"/>
            <p:cNvSpPr/>
            <p:nvPr/>
          </p:nvSpPr>
          <p:spPr>
            <a:xfrm flipV="1" rot="10800000">
              <a:off x="5189400" y="3103560"/>
              <a:ext cx="575640" cy="2519280"/>
            </a:xfrm>
            <a:prstGeom prst="downArrow">
              <a:avLst>
                <a:gd name="adj1" fmla="val 50000"/>
                <a:gd name="adj2" fmla="val 109412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6385680" y="492336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5614920" y="4083480"/>
              <a:ext cx="18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H &lt;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3629520" y="604296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873720" y="1984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8"/>
            <p:cNvSpPr/>
            <p:nvPr/>
          </p:nvSpPr>
          <p:spPr>
            <a:xfrm>
              <a:off x="1505160" y="2404080"/>
              <a:ext cx="23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505160" y="3103560"/>
              <a:ext cx="2409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 flipV="1">
              <a:off x="3914640" y="3103560"/>
              <a:ext cx="1275120" cy="251928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3914640" y="3103560"/>
              <a:ext cx="340056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-82440" y="5883840"/>
            <a:ext cx="930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* Quantidade de reagentes interfere na Entalp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4" descr="fogo"/>
          <p:cNvPicPr/>
          <p:nvPr/>
        </p:nvPicPr>
        <p:blipFill>
          <a:blip r:embed="rId1"/>
          <a:stretch/>
        </p:blipFill>
        <p:spPr>
          <a:xfrm>
            <a:off x="6153120" y="1989000"/>
            <a:ext cx="2830680" cy="367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fosforo"/>
          <p:cNvPicPr/>
          <p:nvPr/>
        </p:nvPicPr>
        <p:blipFill>
          <a:blip r:embed="rId2"/>
          <a:stretch/>
        </p:blipFill>
        <p:spPr>
          <a:xfrm>
            <a:off x="108000" y="1989000"/>
            <a:ext cx="2998800" cy="3816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6"/>
          <p:cNvSpPr/>
          <p:nvPr/>
        </p:nvSpPr>
        <p:spPr>
          <a:xfrm>
            <a:off x="2931120" y="1989000"/>
            <a:ext cx="328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os dois cas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o cal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é o mesm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95520" y="5666760"/>
            <a:ext cx="77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físico interfere na Entalp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08000" y="169992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Para a água entrar em ebulição, o calor necessário é o mesmo nos dois caso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533520" y="2971800"/>
            <a:ext cx="8153280" cy="2571840"/>
            <a:chOff x="533520" y="2971800"/>
            <a:chExt cx="8153280" cy="2571840"/>
          </a:xfrm>
        </p:grpSpPr>
        <p:pic>
          <p:nvPicPr>
            <p:cNvPr id="221" name="Picture 12" descr="Iceberg"/>
            <p:cNvPicPr/>
            <p:nvPr/>
          </p:nvPicPr>
          <p:blipFill>
            <a:blip r:embed="rId1"/>
            <a:stretch/>
          </p:blipFill>
          <p:spPr>
            <a:xfrm>
              <a:off x="533520" y="2971800"/>
              <a:ext cx="388620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3" descr="agua2"/>
            <p:cNvPicPr/>
            <p:nvPr/>
          </p:nvPicPr>
          <p:blipFill>
            <a:blip r:embed="rId2"/>
            <a:stretch/>
          </p:blipFill>
          <p:spPr>
            <a:xfrm>
              <a:off x="4800600" y="2971800"/>
              <a:ext cx="388620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36520" y="5660640"/>
            <a:ext cx="86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alotrópico interfere na Entalp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94360" y="1964880"/>
            <a:ext cx="79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energia dos dois casos é a mesm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755640" y="2492280"/>
            <a:ext cx="6618600" cy="3041280"/>
            <a:chOff x="755640" y="2492280"/>
            <a:chExt cx="6618600" cy="3041280"/>
          </a:xfrm>
        </p:grpSpPr>
        <p:pic>
          <p:nvPicPr>
            <p:cNvPr id="228" name="Picture 7" descr="diamante"/>
            <p:cNvPicPr/>
            <p:nvPr/>
          </p:nvPicPr>
          <p:blipFill>
            <a:blip r:embed="rId1"/>
            <a:stretch/>
          </p:blipFill>
          <p:spPr>
            <a:xfrm>
              <a:off x="4950720" y="2492280"/>
              <a:ext cx="2423520" cy="24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8" descr="grafite"/>
            <p:cNvPicPr/>
            <p:nvPr/>
          </p:nvPicPr>
          <p:blipFill>
            <a:blip r:embed="rId2"/>
            <a:stretch/>
          </p:blipFill>
          <p:spPr>
            <a:xfrm>
              <a:off x="755640" y="3322440"/>
              <a:ext cx="3015360" cy="7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1371960" y="51652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rbono Grafi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5051520" y="5165280"/>
              <a:ext cx="20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rbono Diama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5515560"/>
            <a:ext cx="838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* A temperatura (e a Pressão) à qual está submetido o sistema interfere na Entalpí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8" descr="boyle"/>
          <p:cNvPicPr/>
          <p:nvPr/>
        </p:nvPicPr>
        <p:blipFill>
          <a:blip r:embed="rId1"/>
          <a:stretch/>
        </p:blipFill>
        <p:spPr>
          <a:xfrm>
            <a:off x="2133720" y="2846520"/>
            <a:ext cx="5317920" cy="2628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9"/>
          <p:cNvSpPr/>
          <p:nvPr/>
        </p:nvSpPr>
        <p:spPr>
          <a:xfrm>
            <a:off x="108000" y="13161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gentes expostos a estas duas situaçõ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giriam da mesma form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277440" y="23184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Finalmen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39640" y="9428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Os fatores que influenciam na entalpia de uma reação são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46526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A temperatura (e a Pressão) à qual está submetido 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82760" y="4004640"/>
            <a:ext cx="44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alotróp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59000" y="328392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fís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05360" y="256500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Quantidade de reag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TERMOQUÍMICA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aixaDeTexto 4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Termoquímic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é uma das principais áreas da Química por envolver conceitos de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troca de energi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ntre os processos físicos e químic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ttp://www.qpcpesquisa.com/termoquimica.bmp"/>
          <p:cNvPicPr/>
          <p:nvPr/>
        </p:nvPicPr>
        <p:blipFill>
          <a:blip r:embed="rId1"/>
          <a:stretch/>
        </p:blipFill>
        <p:spPr>
          <a:xfrm rot="19877400">
            <a:off x="187200" y="4487400"/>
            <a:ext cx="2387880" cy="139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3357720" y="4071960"/>
            <a:ext cx="2185920" cy="212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www.guarapuava.pr.gov.br/noticiaimagem/ciclismo_feminino.jpg"/>
          <p:cNvPicPr/>
          <p:nvPr/>
        </p:nvPicPr>
        <p:blipFill>
          <a:blip r:embed="rId3"/>
          <a:stretch/>
        </p:blipFill>
        <p:spPr>
          <a:xfrm rot="1803000">
            <a:off x="6246720" y="4653000"/>
            <a:ext cx="253044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S UNIDADES DE ENE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aixaDeTexto 2"/>
          <p:cNvSpPr/>
          <p:nvPr/>
        </p:nvSpPr>
        <p:spPr>
          <a:xfrm>
            <a:off x="0" y="1643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s duas principais unidades de medida para energia são a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caloria (cal)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o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joule (J)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aixaDeTexto 3"/>
          <p:cNvSpPr/>
          <p:nvPr/>
        </p:nvSpPr>
        <p:spPr>
          <a:xfrm>
            <a:off x="213480" y="32860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IUPAC: joule (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aixaDeTexto 4"/>
          <p:cNvSpPr/>
          <p:nvPr/>
        </p:nvSpPr>
        <p:spPr>
          <a:xfrm>
            <a:off x="225360" y="421488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ers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aixaDeTexto 5"/>
          <p:cNvSpPr/>
          <p:nvPr/>
        </p:nvSpPr>
        <p:spPr>
          <a:xfrm>
            <a:off x="3017160" y="500076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cal = 4,184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kcal = 4,18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2"/>
          <p:cNvSpPr/>
          <p:nvPr/>
        </p:nvSpPr>
        <p:spPr>
          <a:xfrm>
            <a:off x="4320" y="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CaixaDeTexto 3"/>
          <p:cNvSpPr/>
          <p:nvPr/>
        </p:nvSpPr>
        <p:spPr>
          <a:xfrm>
            <a:off x="12960" y="71424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ransforme 105 cal em J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aixaDeTexto 4"/>
          <p:cNvSpPr/>
          <p:nvPr/>
        </p:nvSpPr>
        <p:spPr>
          <a:xfrm>
            <a:off x="2943360" y="1500120"/>
            <a:ext cx="288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cal – 4,184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aixaDeTexto 5"/>
          <p:cNvSpPr/>
          <p:nvPr/>
        </p:nvSpPr>
        <p:spPr>
          <a:xfrm>
            <a:off x="2513880" y="2000160"/>
            <a:ext cx="27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05 cal –    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x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aixaDeTexto 6"/>
          <p:cNvSpPr/>
          <p:nvPr/>
        </p:nvSpPr>
        <p:spPr>
          <a:xfrm>
            <a:off x="2940480" y="257184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x = 439,3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13320" y="3357720"/>
            <a:ext cx="52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ransforme 80 kJ em k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3088440" y="4143240"/>
            <a:ext cx="33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kcal – 4,18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aixaDeTexto 9"/>
          <p:cNvSpPr/>
          <p:nvPr/>
        </p:nvSpPr>
        <p:spPr>
          <a:xfrm>
            <a:off x="3583800" y="4643280"/>
            <a:ext cx="24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y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– 80 kJ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aixaDeTexto 10"/>
          <p:cNvSpPr/>
          <p:nvPr/>
        </p:nvSpPr>
        <p:spPr>
          <a:xfrm>
            <a:off x="3585240" y="5214960"/>
            <a:ext cx="25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y = 19,1 k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 ENERGIA DOS ALIMEN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67160" y="1279440"/>
            <a:ext cx="3936960" cy="5243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2"/>
          <p:cNvSpPr/>
          <p:nvPr/>
        </p:nvSpPr>
        <p:spPr>
          <a:xfrm>
            <a:off x="0" y="357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2d050"/>
                </a:solidFill>
                <a:latin typeface="Arial"/>
              </a:rPr>
              <a:t>Biolog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tuda o mecanismo de como se dá o arma-zenamento de energia nas plantas e nos ani-m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CaixaDeTexto 3"/>
          <p:cNvSpPr/>
          <p:nvPr/>
        </p:nvSpPr>
        <p:spPr>
          <a:xfrm>
            <a:off x="0" y="3214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Quí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ecuta os cálculos da energia produzida pela ingestão de alimentos assim como a energia liberada através de atividades físicas, por exemp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Pirâmide alimen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tângulo 2"/>
          <p:cNvSpPr/>
          <p:nvPr/>
        </p:nvSpPr>
        <p:spPr>
          <a:xfrm>
            <a:off x="0" y="5842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b0f0"/>
                </a:solidFill>
                <a:latin typeface="Arial"/>
              </a:rPr>
              <a:t>Cardápio balancea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erca de 55% de carboidratos, 3 0%  de  lipídeos e 15% de proteína, além das vitaminas, sais minerais e fib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71760" y="1214280"/>
            <a:ext cx="6118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ixaDeTexto 2"/>
          <p:cNvSpPr/>
          <p:nvPr/>
        </p:nvSpPr>
        <p:spPr>
          <a:xfrm>
            <a:off x="2160" y="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mos refletir” p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aixaDeTexto 3"/>
          <p:cNvSpPr/>
          <p:nvPr/>
        </p:nvSpPr>
        <p:spPr>
          <a:xfrm>
            <a:off x="0" y="571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 acordo com pesquisa em tabela de valores nutricionais de alimentos, apresentamos os dados a segu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1500120"/>
          <a:ext cx="8786880" cy="4784760"/>
        </p:xfrm>
        <a:graphic>
          <a:graphicData uri="http://schemas.openxmlformats.org/drawingml/2006/table">
            <a:tbl>
              <a:tblPr/>
              <a:tblGrid>
                <a:gridCol w="3432240"/>
                <a:gridCol w="3227400"/>
                <a:gridCol w="212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dade aproxim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energético</a:t>
                      </a:r>
                      <a:r>
                        <a:rPr b="1" lang="pt-BR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fôrma fati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g (2 fati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 kcal = 590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arin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 (1 colher de so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kcal = 24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arrão instantâneo com tempero de carne e tom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g (1 prato ras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 kcal = 1989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oca sem temp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g (1/4 xícara de chá de milho de pipoc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 kcal = 32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oito recheado de moran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g (2,5 unidad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kcal = 60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oito integral, salgado, com gergel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g (9 unidad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kcal = 569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ijão pre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g (1/2 xícara de chá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 kcal = 1076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te condens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g (2 colheres de so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 kcal = 42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 de ameixa cremoso em pas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g (2 colheres de so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kcal = 209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75" name="CaixaDeTexto 5"/>
          <p:cNvSpPr/>
          <p:nvPr/>
        </p:nvSpPr>
        <p:spPr>
          <a:xfrm>
            <a:off x="11160" y="648828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*1cal = 4,186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4:54Z</dcterms:created>
  <dc:creator>Cliente</dc:creator>
  <dc:description/>
  <dc:language>en-US</dc:language>
  <cp:lastModifiedBy>Moises</cp:lastModifiedBy>
  <dcterms:modified xsi:type="dcterms:W3CDTF">2010-10-06T02:47:16Z</dcterms:modified>
  <cp:revision>27</cp:revision>
  <dc:subject/>
  <dc:title>TERMOQUÍMICA</dc:title>
</cp:coreProperties>
</file>